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1205C-3B2E-42AD-8F91-CBBBC9B65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C9941-FC85-4BF4-B95E-A0B495B71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DCBBF-C109-4618-8C2E-1330DB617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5DB3F-3179-414E-966C-74F881656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4C9C7-E713-4A6F-A5FC-440238743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B7823-2C0C-47DC-9F64-4220380D1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EDB4E-5A07-4A11-B44D-D7B797F19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22898-1031-4DCB-A8A1-6F34D3927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E07FB-3959-460F-B9D0-5764B73C8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31880-1DD2-4EFD-810B-9A153105D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6678B-29E9-49EB-900F-D4E7654F0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AD8DC-7D8F-454E-A75A-4430CC090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E4531-CC7D-4E21-9F4F-72620554BB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71680"/>
            <a:ext cx="9906120" cy="74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371600"/>
            <a:ext cx="9906120" cy="131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743200"/>
            <a:ext cx="9906120" cy="97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3772080"/>
            <a:ext cx="990612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6458040"/>
            <a:ext cx="3081240" cy="399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192480" y="6458040"/>
            <a:ext cx="3521160" cy="399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24520" y="6458040"/>
            <a:ext cx="3081600" cy="399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4971960"/>
            <a:ext cx="9906120" cy="142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90612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571680"/>
            <a:ext cx="9906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Type de risque identifi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EUILLE DE RIS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1371600"/>
            <a:ext cx="9906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Faits constaté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2743200"/>
            <a:ext cx="9906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Causes explicati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3772080"/>
            <a:ext cx="9906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Conséquences réelles ou possib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4971960"/>
            <a:ext cx="9906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Recommand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6458040"/>
            <a:ext cx="3081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Visa audite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192480" y="6458040"/>
            <a:ext cx="35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Visa Chef de miss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824520" y="6458040"/>
            <a:ext cx="30816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Visa Directeur génér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M. Anto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3T11:00:24Z</dcterms:created>
  <dc:creator>Henri-Pierre Maders, Jean-Luc Masselin</dc:creator>
  <dc:description/>
  <dc:language>en-US</dc:language>
  <cp:lastModifiedBy>rochas</cp:lastModifiedBy>
  <cp:lastPrinted>2000-05-11T10:17:14Z</cp:lastPrinted>
  <dcterms:modified xsi:type="dcterms:W3CDTF">2004-04-01T13:37:19Z</dcterms:modified>
  <cp:revision>70</cp:revision>
  <dc:subject/>
  <dc:title>Contrôle interne des risques</dc:title>
</cp:coreProperties>
</file>